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997D-B37A-478E-B24A-AD1FFD851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236E-4AE9-425E-9767-35D2F3E03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C080-9E84-44D3-BA7A-3D1922738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3026-55EA-4B51-A4EE-7F5580385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39BD8-F34F-454D-8A4A-EE921D8DA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5210F-A967-48C5-996B-2A77E4A54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CB083-3902-479C-AAF0-F66F4AE72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60E30-17CE-43DD-B5F7-F7593CBB6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9C6AE-96A1-4841-8BDB-5343A58BC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DCDD5-9E5A-4BF7-BE4F-7F3FC3CF3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4585B-6CCF-4F20-8399-EEB2A79A1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4B23-E9AF-4D9C-A18A-F1E22F8D9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ECEF2-60D1-4390-A8E8-C1A1CE770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7716E-FF83-4954-9378-126B08845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1E2B6-7167-4A5A-81F0-7575C1804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F39BD-D696-409C-9796-6EC7CE592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BE9C2-6B9C-46C1-A077-3E06C86FE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8BDD-71DA-4216-9829-B7B584E6D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79A3-BE4E-4710-B703-A8D8357FA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F173-319B-4E61-A2A3-749F448C4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DFD0-B9B0-4208-A8F6-E4D30120B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276C-C832-4840-9CC9-A904C3762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0FB4-A022-4B6C-BEB5-225CE615A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7FB3-D030-4517-BE8E-8AF0A6A7B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0A497-7C32-4048-BE1A-D3F75CF091C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49820-CD6D-4C8C-93AF-C67699CA76E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Bodoni MT Black"/>
              </a:rPr>
              <a:t>LESSON 11</a:t>
            </a:r>
            <a:br>
              <a:rPr sz="5400"/>
            </a:br>
            <a:r>
              <a:rPr b="0" lang="en-US" sz="5400" spc="-1" strike="noStrike">
                <a:solidFill>
                  <a:srgbClr val="ffffcc"/>
                </a:solidFill>
                <a:latin typeface="Bodoni MT Black"/>
              </a:rPr>
              <a:t>THE PEARL OF GREAT PRICE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434340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MATTHEW 13:45-4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Bodoni MT Black"/>
              </a:rPr>
              <a:t>INTRODUC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General Theme:  Similitude of the Kingdo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Main Lesson:  Seeking and finding the Kingdom is the supreme discovery bringing the greatest joy!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Bodoni MT Black"/>
              </a:rPr>
              <a:t>THE </a:t>
            </a:r>
            <a:r>
              <a:rPr b="0" lang="en-US" sz="4000" spc="-1" strike="noStrike" u="sng">
                <a:solidFill>
                  <a:srgbClr val="ffffcc"/>
                </a:solidFill>
                <a:uFillTx/>
                <a:latin typeface="Bodoni MT Black"/>
              </a:rPr>
              <a:t>SETTING</a:t>
            </a:r>
            <a:r>
              <a:rPr b="0" lang="en-US" sz="4000" spc="-1" strike="noStrike">
                <a:solidFill>
                  <a:srgbClr val="ffffcc"/>
                </a:solidFill>
                <a:latin typeface="Bodoni MT Black"/>
              </a:rPr>
              <a:t> OF THE PARABL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It is the same as the parable of the “Hidden Treasure.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The “Great Value” of the Kingdom is still the topic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The willingness to sacrifice all is the characteristic of the seeker for the finder of the treasur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cc"/>
                </a:solidFill>
                <a:uFillTx/>
                <a:latin typeface="Bodoni MT Black"/>
              </a:rPr>
              <a:t>EXPLANATION</a:t>
            </a:r>
            <a:r>
              <a:rPr b="0" lang="en-US" sz="3000" spc="-1" strike="noStrike">
                <a:solidFill>
                  <a:srgbClr val="ffffcc"/>
                </a:solidFill>
                <a:latin typeface="Bodoni MT Black"/>
              </a:rPr>
              <a:t> OF DETAILS ESSENTIAL TO UNDERSTANDING THE PARABLE</a:t>
            </a:r>
            <a:endParaRPr b="0" lang="en-US" sz="3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“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enguiat Bk BT"/>
              </a:rPr>
              <a:t>Merchant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” – Trader; merchantman; retailer – Rev. 18:3, 11,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“merchants of the world weep over fallen Babylon…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“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enguiat Bk BT"/>
              </a:rPr>
              <a:t>Pearl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” – Highly esteemed for purity and beaut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1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Reason for Jesus’ advice – Matt 7:6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.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enguiat Bk BT"/>
              </a:rPr>
              <a:t>Neither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have appreciation for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   spiritual valu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b. 1 Cor. 2:14 –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“natural man does not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     receive the things of the spirit…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2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Revelation 21:21 –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“Holy city…adorned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with twelve pearls…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Bodoni MT Black"/>
              </a:rPr>
              <a:t>THE </a:t>
            </a:r>
            <a:r>
              <a:rPr b="0" lang="en-US" sz="4000" spc="-1" strike="noStrike" u="sng">
                <a:solidFill>
                  <a:srgbClr val="ffffcc"/>
                </a:solidFill>
                <a:uFillTx/>
                <a:latin typeface="Bodoni MT Black"/>
              </a:rPr>
              <a:t>APPLICATION</a:t>
            </a:r>
            <a:r>
              <a:rPr b="0" lang="en-US" sz="4000" spc="-1" strike="noStrike">
                <a:solidFill>
                  <a:srgbClr val="ffffcc"/>
                </a:solidFill>
                <a:latin typeface="Bodoni MT Black"/>
              </a:rPr>
              <a:t> OF THE PARABL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his parable expands on the message of the “Hidden Treasure.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he wisdom of seeking the greatest things in lif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1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Heb. 11:6 –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“…God is a rewarder of them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that diligent seek Him…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2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Matt. 6:33 –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“…seek first </a:t>
            </a:r>
            <a:r>
              <a:rPr b="0" lang="en-US" sz="2800" spc="-1" strike="noStrike">
                <a:solidFill>
                  <a:srgbClr val="ffffff"/>
                </a:solidFill>
                <a:latin typeface="BernhardMod BT"/>
              </a:rPr>
              <a:t>(first importance)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the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kingdom of God…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. Matt 7:7 –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“…he that seeks, finds…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b. Acts 17:27 –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“…he his not far from each one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    of us…”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(easy to find for those who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  seek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Bodoni MT Black"/>
              </a:rPr>
              <a:t>THE </a:t>
            </a:r>
            <a:r>
              <a:rPr b="0" lang="en-US" sz="4000" spc="-1" strike="noStrike" u="sng">
                <a:solidFill>
                  <a:srgbClr val="ffffcc"/>
                </a:solidFill>
                <a:uFillTx/>
                <a:latin typeface="Bodoni MT Black"/>
              </a:rPr>
              <a:t>APPLICATION</a:t>
            </a:r>
            <a:r>
              <a:rPr b="0" lang="en-US" sz="4000" spc="-1" strike="noStrike">
                <a:solidFill>
                  <a:srgbClr val="ffffcc"/>
                </a:solidFill>
                <a:latin typeface="Bodoni MT Black"/>
              </a:rPr>
              <a:t> OF THE PARABLE </a:t>
            </a:r>
            <a:r>
              <a:rPr b="0" i="1" lang="en-US" sz="3200" spc="-1" strike="noStrike">
                <a:solidFill>
                  <a:srgbClr val="ffffcc"/>
                </a:solidFill>
                <a:latin typeface="BernhardMod BT"/>
              </a:rPr>
              <a:t>Continued…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3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he merchant had a definite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purpose –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he pursued it with singleness of hear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. Luke 15:8 –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The woman had a lamp, swept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    and searched diligentl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b. Too much “aimlessness” toda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c. The parable illustrates the Kingdom is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   worth intense and diligent search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4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he merchant was not satisfied with the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ordinary; common –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he sought a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BernhardMod BT"/>
              </a:rPr>
              <a:t>fine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 pearl of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BernhardMod BT"/>
              </a:rPr>
              <a:t>great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 valu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Bodoni MT Black"/>
              </a:rPr>
              <a:t>THE </a:t>
            </a:r>
            <a:r>
              <a:rPr b="0" lang="en-US" sz="4000" spc="-1" strike="noStrike" u="sng">
                <a:solidFill>
                  <a:srgbClr val="ffffcc"/>
                </a:solidFill>
                <a:uFillTx/>
                <a:latin typeface="Bodoni MT Black"/>
              </a:rPr>
              <a:t>APPLICATION</a:t>
            </a:r>
            <a:r>
              <a:rPr b="0" lang="en-US" sz="4000" spc="-1" strike="noStrike">
                <a:solidFill>
                  <a:srgbClr val="ffffcc"/>
                </a:solidFill>
                <a:latin typeface="Bodoni MT Black"/>
              </a:rPr>
              <a:t> OF THE PARABLE </a:t>
            </a:r>
            <a:r>
              <a:rPr b="0" i="1" lang="en-US" sz="3200" spc="-1" strike="noStrike">
                <a:solidFill>
                  <a:srgbClr val="ffffcc"/>
                </a:solidFill>
                <a:latin typeface="BernhardMod BT"/>
              </a:rPr>
              <a:t>Continued…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2280" y="2133720"/>
            <a:ext cx="8839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Understanding the great worth in finding the pear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1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The pearl equates to an eternally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saved sou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2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John 1:45-46 – It is Phillip’s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announcement to Nathanael, </a:t>
            </a:r>
            <a:r>
              <a:rPr b="0" i="1" lang="en-US" sz="3200" spc="-1" strike="noStrike">
                <a:solidFill>
                  <a:srgbClr val="ffffff"/>
                </a:solidFill>
                <a:latin typeface="BernhardMod BT"/>
              </a:rPr>
              <a:t>“We </a:t>
            </a:r>
            <a:r>
              <a:rPr b="0" i="1" lang="en-US" sz="32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BernhardMod BT"/>
              </a:rPr>
              <a:t>have found the one Moses wrote about in the </a:t>
            </a:r>
            <a:r>
              <a:rPr b="0" i="1" lang="en-US" sz="32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BernhardMod BT"/>
              </a:rPr>
              <a:t>law…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Bodoni MT Black"/>
              </a:rPr>
              <a:t>THE </a:t>
            </a:r>
            <a:r>
              <a:rPr b="0" lang="en-US" sz="4000" spc="-1" strike="noStrike" u="sng">
                <a:solidFill>
                  <a:srgbClr val="ffffcc"/>
                </a:solidFill>
                <a:uFillTx/>
                <a:latin typeface="Bodoni MT Black"/>
              </a:rPr>
              <a:t>APPLICATION</a:t>
            </a:r>
            <a:r>
              <a:rPr b="0" lang="en-US" sz="4000" spc="-1" strike="noStrike">
                <a:solidFill>
                  <a:srgbClr val="ffffcc"/>
                </a:solidFill>
                <a:latin typeface="Bodoni MT Black"/>
              </a:rPr>
              <a:t> OF THE PARABLE </a:t>
            </a:r>
            <a:r>
              <a:rPr b="0" i="1" lang="en-US" sz="3200" spc="-1" strike="noStrike">
                <a:solidFill>
                  <a:srgbClr val="ffffcc"/>
                </a:solidFill>
                <a:latin typeface="BernhardMod BT"/>
              </a:rPr>
              <a:t>Continued…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3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The willingness to sacrific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enguiat Bk BT"/>
              </a:rPr>
              <a:t>all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to possess the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pear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a. The merchant was an ordinary trader, but he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becomes a collecto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b. His interest is no longer for physical gai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1) Treasure is too great to negotiate with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2) Possession brings joy – he would sell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    everything els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3) All other pearls are sacrificed to possess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    this on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c. There may be more than one way to find a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treasure or pearl, but there is only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enguiat Bk BT"/>
              </a:rPr>
              <a:t>one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way to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possession them –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enguiat Bk BT"/>
              </a:rPr>
              <a:t>sell everything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Bodoni MT Black"/>
              </a:rPr>
              <a:t>THE </a:t>
            </a:r>
            <a:r>
              <a:rPr b="0" lang="en-US" sz="4000" spc="-1" strike="noStrike" u="sng">
                <a:solidFill>
                  <a:srgbClr val="ffffcc"/>
                </a:solidFill>
                <a:uFillTx/>
                <a:latin typeface="Bodoni MT Black"/>
              </a:rPr>
              <a:t>APPLICATION</a:t>
            </a:r>
            <a:r>
              <a:rPr b="0" lang="en-US" sz="4000" spc="-1" strike="noStrike">
                <a:solidFill>
                  <a:srgbClr val="ffffcc"/>
                </a:solidFill>
                <a:latin typeface="Bodoni MT Black"/>
              </a:rPr>
              <a:t> OF THE PARABLE </a:t>
            </a:r>
            <a:r>
              <a:rPr b="0" i="1" lang="en-US" sz="3200" spc="-1" strike="noStrike">
                <a:solidFill>
                  <a:srgbClr val="ffffcc"/>
                </a:solidFill>
                <a:latin typeface="BernhardMod BT"/>
              </a:rPr>
              <a:t>Continued…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4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Salvation is both a gift and a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purchas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. It is a gift - because it is not of the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   merchant’s doing – only his discover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b. It is a purchase – because it is worth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   everything we can put into i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5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Luke 12:34 –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“For where your treasure is, there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will your heart be also.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. Cf. Col. 3:2-3 –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“Set your mind on things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    above, not on earthly things. For you died, and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    your life is now hidden with Christ in God.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b. Cf. Matt 6:20 –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“But store up for yourselves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    treasures in heaven…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9T21:18:32Z</dcterms:created>
  <dc:creator>Jerry Cantrell </dc:creator>
  <dc:description/>
  <dc:language>en-US</dc:language>
  <cp:lastModifiedBy>Jerry Cantrell </cp:lastModifiedBy>
  <dcterms:modified xsi:type="dcterms:W3CDTF">2006-02-10T03:29:05Z</dcterms:modified>
  <cp:revision>11</cp:revision>
  <dc:subject/>
  <dc:title>LESSON 11 THE PEARL OF GREAT PRICE</dc:title>
</cp:coreProperties>
</file>